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6.png" ContentType="image/png"/>
  <Override PartName="/ppt/media/image11.gif" ContentType="image/gif"/>
  <Override PartName="/ppt/media/image14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image21.wmf" ContentType="image/x-wmf"/>
  <Override PartName="/ppt/media/image20.wmf" ContentType="image/x-wmf"/>
  <Override PartName="/ppt/media/image4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12.jpeg" ContentType="image/jpeg"/>
  <Override PartName="/ppt/media/image7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5AA38-441B-483A-9704-F3355464CB7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118FB-EA03-4182-A56E-8488633A8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5ACDEF5-979F-475E-8C75-9AD4115D1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2D3B925-90AF-4CE3-88A1-89A5A0CDB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632484B-177A-4A04-B9AB-D2D71836A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FDAAB23-D7CD-4760-8303-ECCD67E37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5B7674B-1E8B-45DC-AED5-C70DB6752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A07DAC9-1C69-44A1-9E0E-909C8D4B7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1D4F664-D765-4BD4-A69B-061879450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C7AE2D6-04F0-4587-811D-714EF611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E0780AE-9548-494D-83A2-DACBF3A785E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214E61-48F0-4216-B7D3-0264FB4411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26D27-A374-4DD0-B9DB-DED9E407B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1C7189-8673-4455-8561-3E7250772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0EAD70-87C8-4FAA-AF1D-86709676C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CE57B6-848D-4FB5-A5C9-5E9AD7250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C1744C-23F9-41C3-862A-918CB160E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16A1F0-27E8-4BFC-8C1A-6CFAC462D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40FBDE-B89D-4EA3-BEA3-CCD6783B8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2BCB72-8500-4657-8E70-D649EF86E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E74270-470D-4136-8AF7-006FCF288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5BC8F9-9EA4-49A7-8240-4B124E334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EBA793-A016-414D-AFA2-2BE32C7BF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BE44E-03A4-4B7E-A45F-F93301A2DC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4AF8D3-126D-4BCE-80C2-6C9CE49619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3C0E55-DB38-42A0-8B30-2019ED6987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E51C9F-9CDB-45A4-8000-86C28FC57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39AF38B-2EF2-434F-AECF-2010B5EA9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9F4434-71F0-410E-A2A4-C207D82D5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C7A5DC7-DDBA-4862-9AE9-EA4E7FA3E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B6BC358-F22B-4EA5-97F7-FA2F94548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4C3C4C-3BCA-466F-90C5-45330FE85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C082AEC-1B64-418A-B0CE-0D14D8972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5B081C4-FE5B-40CF-93AF-C1FF7065A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D67791-5E95-4A7D-8646-F735B5DBB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2D4F1E6-A717-4AEC-B3DE-E16012E03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FA4F454-711C-4EA8-9F5F-FE1031FBE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3FECE7-6D44-497F-9C4E-81C0D81EFE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10792D-46D4-4E83-9338-292851F3EAC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68D020-FB7D-4873-83BC-CA9BD7327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DB84D5-F25E-47AC-ACE7-D61794672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B23093-212A-4CE5-99B9-F0B25EADC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B0AFF1-F508-4119-96EB-0A9E34998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7B2F78-29F3-4E4E-80FA-C2FD95293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9B121D-0727-4AD8-A88A-B6050C864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AB2032-B63E-4326-A595-592FD516B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453B6B-FA29-456F-B16F-FB92E61AA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5CCBA4-4BEC-4F54-8C70-38D73A167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4C115C-79B4-48C3-B7FB-05BDDA27B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32488A-9289-4672-BE35-4514E3D2D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90997A-A9EE-4B35-AE4B-F3B8DF0EFD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85E302-095B-41CD-BB51-FF5B8AF46FF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B1A1C8-E3C0-49A5-935A-4F3470C86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08754D-A21A-45FF-B3CA-2A19B4918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DAD6A4-E373-4170-B34D-C1C4D7857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60D1DC-3500-467D-9973-ABB404131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B12984-5EF0-46D1-860E-E22712C51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CE450A-6DCF-44B9-98D4-7BFCFDE9C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F42A1F-1769-43E7-BE9C-28C909642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B8CB49-8A41-4ECE-B53C-141FFAB8C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0708DA-853D-4EAA-873F-B077FD77D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139311-C05E-49AA-8C5E-B8B81897B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ACDAA7-C326-4C7B-BBD1-BD20B8B1C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B1B658-5829-406C-AB0D-5AA7C99696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296210-C37E-43C4-9DB6-AB9421947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2387B0-893E-4327-8381-30584E8E7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A1667A-0FEB-4BEF-9306-1FDCA6C2D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E6E358-6A66-4BE9-A550-BE8D1A7C6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FD0817-C67D-4968-987C-F9B340048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B23D87-00E5-46C8-A61B-A655C0359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83D92E-48E3-4C44-AB28-7BD101C15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65ED8D-ED8A-4CE0-A267-C2E540D0E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642140-B84D-4B66-9BE0-F4DE1E0F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12BE58-F289-4B5D-9829-7BE6EE258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1D087C-BC8A-4686-8660-0037CCEF2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A71EE3-7837-4166-A48E-C61FAE5C3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34EB54-BD14-4A4D-97C0-1031F97C3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FF17B7-A89F-4C01-A74C-2D4043937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4A0660-9C4E-4608-90CB-673FA91BC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7637A3-791D-4B57-847B-6C5D54114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C8E2FF-1990-4C69-B741-5B42F9ED8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8F9DDA-9273-492D-BEA6-CCF44ABAA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29C6A7-EF26-4C27-BD84-9480A02A4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33F059-BB46-4228-BB86-010F31F79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D20C04-CCB9-479C-996F-5069D75E4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517486-C0F9-441D-9202-A56F65E90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241A1C-8869-4445-B315-75141138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C708E7-BF27-48F4-92BB-83A38B24B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8B8738-5D42-4949-ACE9-6FE41B9D9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DAF101-5F4A-4182-A7A0-2B64B6482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59D94D-4421-4AF0-9C95-8B06EC668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7AB579-E90B-42BE-B903-D8E47AAC8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182E16-9155-4898-96EF-061151E8E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4578AD-A61B-4564-BF4A-7C1301D21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AADE1F-90AD-4F2C-B2DF-0E302EC8C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8862C2-551C-4DFD-9761-B99CF9969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8C4061-F6F4-42EE-A946-C346F500C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6E7391-61BE-48BA-BD22-FAEDB31DA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D39337-F759-4411-8515-CE7B3D103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E21C41-6820-4BCD-BBC4-C3CFC17CD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CA333C-6C1B-47A2-9236-87F0006C8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4EB11E-B0FB-446E-9915-3E2B98C49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3718EE-5501-4AB7-BF99-AA23C261C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899D3C-5CF1-4A37-93F0-9285DCABC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67FA5D-8D13-4115-BB1F-9D595D164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554425-6184-492A-9AB3-CDFD8FC5E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CEAA9E-5910-4483-8CB5-046637229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867040-DBAA-4005-B25C-5F07263B8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67EF9D-C1D7-4227-A24A-38F5C7540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003C52-7CFD-4133-B29D-46957ACF5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C58AE3-3061-49EA-8725-380CCA7A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584F9-C5EE-4C8B-AF83-E39F29035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CA80A6-CF96-425D-9074-D66DB7CC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17B495-E92A-4976-9B12-AEEE11BB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179B4C-884E-4094-B01E-0B2D1C23E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CA6ACD-5726-47C4-A3A3-5B86EB5DC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258709-B371-44D6-A755-D030FDEB5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FF5078-B6CA-41D5-B406-6A80D0EA8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78D589-9ECB-440F-9BD0-BEE496003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5FA3FE-4EBA-4FAA-A924-DF87FD9E9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7F7A29-F255-4939-A425-1EAAFFDAF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B6EA10-74BC-43F6-9041-1B3113CCB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42407A-E331-49A1-9CDC-D8D1A1F65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C6127F-A600-4DE3-9A98-0A1C4CCC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137A0D-467C-4BB6-AE8D-CC9D94C9C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6ECACF-03CB-456F-BA05-97F81334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FA50A7-563C-40FF-B774-AD87242D9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AF59FC-F0B0-4F0A-825A-235F5217C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3C78CF-4E08-4F0A-B7DE-F5A6580AD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05D343-7474-4AF2-BFC4-3439101ED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50F7D7-AAE5-497A-BC52-95A3D5151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FC2920-6E15-4CE7-BB6F-2F796D57D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761F65-02B0-43DF-80AC-DAC062C8F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8BD631-03AB-41A6-9549-D111FE251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53C4DC-0858-469A-BCCA-15D3D3AD2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18DB5B-5655-42B1-B92F-7EC2DA8C7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8B0A95-47A4-4868-AAE1-A89528D71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0679F4-012D-40FB-B490-F1D7CD4C8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687602-922F-49AF-8582-67A2C84F0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30F802-C9FD-4FB0-95D5-FE90CDEF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F57589-EED8-4DEF-8794-F31A667AB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2CF350-91D8-4204-959D-6541147D4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DF4BB8-2C6A-4978-B730-356B3BD53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7C82F1-1A64-447F-9F24-3417BCFE5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4BCE94-DD6B-4E7D-AC71-B7BBA837C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DFA2FE-5AA0-44E3-8C3A-907C99105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FE4EA1-8EE0-49A0-BC43-9BB307AC7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E967B4-06D0-44D2-9270-2CACC4B71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9515E2-D685-4FC6-844A-37FA0A394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C6C5DA-B349-4BF7-A0FD-0658E3BD4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A2D52A-2CEA-478E-B619-9B1059E0F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443D98-517F-4AF3-8EDE-D91DD1D19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EA11EA-3B34-4FE3-BEA7-AC6E492D0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1741F4-14DA-4CEC-AA52-40BAD55FB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F95CF1-1D9F-4666-BD76-5F2FD995D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3848C2-B5D7-4026-B4D9-8DB08ADDE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4BF650-E0FA-467A-92D2-FBB5034E9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280C54-0F7D-481A-8143-A12848C2E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65D520-1631-46A1-9485-160F278D9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E388E3-63F3-41DC-A293-995E57996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3C9995-2159-48C1-86CC-529CC11A8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3EAAEB-2266-402A-8DF2-F57B59337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0C7BD2-7992-45E9-BEA5-205D64ABC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F82AA6-E35B-4FCB-BB7D-42E9B6863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5C1E81-0510-435F-822A-EEA0436F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E2A2C1-D2BB-489E-B290-87132AA91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D78C9F-BDEE-4631-ACFF-C12CCFBE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011DA6-79A6-4A00-9610-1FEF2BDD95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B58346-FBEB-4F6E-B0AB-8B00EE427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094300-8553-4190-8598-B488E2C58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F1363B-F026-4DFC-8373-7E91C08D6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784B5C-71FC-4B66-A878-AE89AEAA5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187205-5BF6-42F1-BC5F-6CE4CAAB7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285599-E52A-495F-8C9E-CA0BF4A46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9866C0-EC5B-41F7-A9EC-C7EC84399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60A086-ED86-4E68-B4E5-C6FBBA38E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14FB5B-CF25-42D1-978C-8D145A287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F170B7-C43C-48A8-BE9F-0AA10086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AD45C7-DBC6-42EF-B339-3A663A36B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A98E70-2141-4C37-8897-04B0A56C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FA5692-B7DF-4AF3-9BE7-4FD04F056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6D7D59-6D45-4C3F-ACFF-2CFCEB4BB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961120-8235-4405-9188-FDDB9DB5C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7A78CB-353F-4562-A3C0-63D771465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66BB74-6629-4FD7-870A-C84BA5F55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6208C5-8E7C-43A4-A80B-740517BC3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F4D48A-82A5-427C-B740-8094A87B8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79CC1E-5406-4032-BA3E-AE229F3B7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3CDD72-44FB-44D5-8FE3-1D8875BFF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E2E5F5-55A8-4C89-A0F1-0902FB307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A1E86B-D28C-4C5B-B83B-0E2ED8ECA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430A75-DA0D-490D-AB36-CDEC74B6F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FB4443-C3A3-48EB-B6B3-A753E397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D04D7F-2319-4E5B-A362-A30CA8717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4680B4-6E4D-40B0-BD22-227A12EE0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8892E7-FDB8-4A86-ADB6-307560E98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B389B3-D887-436B-8C54-0974F8472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D73FAD-D55F-4A36-A0C5-946A2D0A9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CAD556-A295-4051-A175-CE192EDFA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0B681C-1CD8-40A9-99DB-B936BD988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FED488-0AC7-48C9-8ED5-200672947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A4FE36-5FC8-4924-AFB3-7AB09764F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088BFA-93F6-40C1-8DB1-9F1E2C178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643259-9462-411F-A5DA-C67CC25AB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6D408B-2A2F-4FBD-B43D-7A66FC52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8B2258-0AFA-4DF3-B481-F7204F32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21548B-3BBF-4546-BD49-E5F87B1F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E6855C-8C33-4A0E-92E5-47F554D38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342FD9-9720-4D5F-A6A0-1ED277909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93EBF8-D824-4B6F-8B85-C1393572B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1F7E6A-87CC-435D-812C-A5FCA1495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F8641-8F1F-4374-9B71-EC57E3D36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4BC5C1-BF60-46E7-B64E-977504E7B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EE9E3A-107F-434C-A4F2-E3A1D34CA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973541-C0CA-4DC6-B680-AD8E7CD36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8CBDBB-67F5-4E11-84EE-73BBBF8FF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0DFE0D-44E9-4166-9018-7A20A5E88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A40B83-55C4-4181-A139-C3078EF21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F2F59F-80D9-425C-845C-CF50A6F429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5E8BB-5718-4585-87D9-CD133FF9DD3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21532-6044-432A-9CAF-E893A32C4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3DFCF-8A0A-4C34-A642-FB32614F5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4464E-F09A-4068-8AB8-6B27C96C6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A92BE-E17B-468D-A942-111BBF945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799DF-A3D4-4BC0-A09F-F1DC56917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93EEC-100C-4A14-85D8-E582939B1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187B4-B81E-460E-86A6-5511AA0B1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558CB-804E-4C7D-978E-9E62B5D16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71FB9-62CB-4014-8511-E3E31AE87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CDA72-5CCE-4C64-97A0-C114607FD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0756D-BD58-48FA-95C7-0D09577C0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09594-DDAD-4CBA-8075-749A7C3637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E084C3-8006-4A82-AC19-BF312BE872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C40BA-3D1A-441A-B92D-D8AFC68DF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EA785A-D9CA-4D27-A4F9-5EC2DF0F1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5B3B90-0810-4636-A70E-75EE78585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4E86FE-BD54-4FE6-84F0-AF8166858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4B800E-4DB7-432D-8E92-834566F8B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ECF76B-8786-4776-B5DC-DEC454454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5EEF1F-1FCA-47A9-83CE-7BF05C75A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643031-435D-445B-B6B2-042A92ECC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771501-A0B7-4514-94E2-8AEA38D65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61A1FE-2C78-4B6E-96CC-424F77D58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7D3F64-35BC-49F8-BC39-FFE179AC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44630-05D7-4DDC-8F86-8F2CB071A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2234F7-7593-4315-92BA-93F7A877E5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1064453-6E71-45C5-A4CA-1FF1C6248D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E1429EC-9B81-46FF-B535-25B4C2AAA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782A41-EAB5-4E1B-B67A-5E479ED4F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76F5B8-029D-4116-8E69-F849E84CB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14C4275-FF55-49C5-A2E8-CD10507DA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90CC8C1-F311-422B-A355-0B62EEC2B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53F233D-99D1-4033-9A50-FD6CBE89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D2EBE06-EB36-488E-A0AB-B5E6AEFFE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88D066C-DD24-48DF-8410-36C2FCFEB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01D94-2686-4124-A8BB-E8D4533D3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AA9505E-0FB6-49E9-904C-41195E248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44AEF33-32A8-43D8-921B-3529670D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30CE1BF-A88C-478E-9BC8-B464DD9D12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6074A-6DE7-4B3B-8261-D889236D78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E0534-D131-4045-BA52-AE9D23C04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FE0ABC-EF40-49EE-A36B-587B1DA63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CC568F-B19E-4924-A596-6FF4330DC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6F2787-2BD7-4034-8B4C-068B46D20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FD863-B865-4E83-8038-06E69714D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6F960-A3F8-427E-B2AF-3A6DD535A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7504C-8A75-4AD8-9495-31654F9D2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8C092-14A4-4CBF-B151-9F5BBFA01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91FFD-26C0-49B1-B822-D44797614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3D7647-2E5D-4837-93A6-4EF3D4DEE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3511DF-C50C-4D7D-8F90-6C7E0CD7E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C20F9-DB9A-4A0B-80B8-4525E976E9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ACDCBD-C306-4C80-849B-993FD4809E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1E0860-4D24-4E86-BF78-B098C9CD9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3AA945-346E-4764-80C3-7BD0E9828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E31FB6-0FA5-4C4F-8EC5-A8235E7CD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F9D72D-DDC7-466E-B51B-9B25C6BC6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B13FE-4619-4870-9660-09BA6413E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4FAE51-83EA-45F3-BE39-6885749EF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57DD8E-37C0-4668-9AE0-ADF5718CD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6F1E49-75EF-4D78-A382-7160EC033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3822BB-F01B-47B4-A118-A6F196E2E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8800A4-5522-4284-B1C4-9969F6F27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EE84D3-03E2-4265-98EE-277CF5B8A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1B2EAC-4537-4C25-A455-D464DC176F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B66BF71-6057-4F3E-8975-A7423C774F7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BE7635D-DB74-4E21-9EF0-44361F357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E5207A1-5BE0-4800-B1EE-A7765A752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9F7BC-2A36-4E17-A6F0-E4F6BBBD7C1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E0AB8-380E-4E9E-BDAC-52AC1D25553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1F210-2F40-4AEF-B216-153B8242CC1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39660-A7E5-4D78-94EB-89FF7E5DBA1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15BEE-54F0-4D61-A839-AC455C53BF7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8A6EC-AFD8-48F2-B5E6-B76B276B565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714CF-0138-436A-B09D-59C2EA4DA4B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5CDA8-10C2-494F-AFE6-978AF36E490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59966-185B-4316-865F-F75532E113F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05F10-75B8-4DBF-A574-0FC8E47E6BD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096E6-BF8D-41FD-8A06-DED3EFE6403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10504-1F6E-458F-906F-146C41F232C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880E6-E47A-4B89-B95A-6DC2AD55D89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E01F3-1A19-4B2F-933A-DBAB2F6A4B1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C2C4F-2A99-49BC-B8FC-C90633639AC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4C371-F39D-4758-B3F9-F437870E38B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E29B2-EFFA-45E5-A118-2B03CB118E4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EF4FF-A51A-4B89-A4B2-DA68A28D51D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4EC99-C6B7-4861-AE17-1DF75787861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573AB-A365-473F-AA25-641D5E2D811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F003F-5EBE-4E95-91EF-9A2F373CEAB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9D6A2-30C5-4557-8437-E4D52621AB2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F18B9-4067-44EA-A711-B89745299BE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80465-5AAE-42B8-B08C-2EBFD81826D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8.png"/><Relationship Id="rId15" Type="http://schemas.openxmlformats.org/officeDocument/2006/relationships/image" Target="../media/image9.png"/><Relationship Id="rId16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2.jpeg"/><Relationship Id="rId4" Type="http://schemas.openxmlformats.org/officeDocument/2006/relationships/image" Target="../media/image13.gif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20.wmf"/><Relationship Id="rId9" Type="http://schemas.openxmlformats.org/officeDocument/2006/relationships/image" Target="../media/image21.wmf"/><Relationship Id="rId10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6" name=""/>
          <p:cNvGrpSpPr/>
          <p:nvPr/>
        </p:nvGrpSpPr>
        <p:grpSpPr>
          <a:xfrm>
            <a:off x="2284560" y="2448000"/>
            <a:ext cx="4475160" cy="360"/>
            <a:chOff x="2284560" y="2448000"/>
            <a:chExt cx="4475160" cy="360"/>
          </a:xfrm>
        </p:grpSpPr>
        <p:sp>
          <p:nvSpPr>
            <p:cNvPr id="987" name="Line 10"/>
            <p:cNvSpPr/>
            <p:nvPr/>
          </p:nvSpPr>
          <p:spPr>
            <a:xfrm>
              <a:off x="2284560" y="2448000"/>
              <a:ext cx="4475160" cy="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 txBox="1"/>
            <p:nvPr/>
          </p:nvSpPr>
          <p:spPr>
            <a:xfrm>
              <a:off x="2284560" y="2448000"/>
              <a:ext cx="4475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9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Rectangle 11"/>
          <p:cNvSpPr/>
          <p:nvPr/>
        </p:nvSpPr>
        <p:spPr>
          <a:xfrm>
            <a:off x="2330280" y="18464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11"/>
          <p:cNvSpPr/>
          <p:nvPr/>
        </p:nvSpPr>
        <p:spPr>
          <a:xfrm>
            <a:off x="2336760" y="1879560"/>
            <a:ext cx="357120" cy="5954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Oval 5"/>
          <p:cNvSpPr/>
          <p:nvPr/>
        </p:nvSpPr>
        <p:spPr>
          <a:xfrm>
            <a:off x="3090960" y="2716200"/>
            <a:ext cx="558720" cy="46368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Rectangle 6"/>
          <p:cNvSpPr/>
          <p:nvPr/>
        </p:nvSpPr>
        <p:spPr>
          <a:xfrm>
            <a:off x="2573280" y="2666880"/>
            <a:ext cx="648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周 长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9"/>
          <p:cNvSpPr/>
          <p:nvPr/>
        </p:nvSpPr>
        <p:spPr>
          <a:xfrm>
            <a:off x="-1163520" y="1744560"/>
            <a:ext cx="888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7 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长方形和正方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三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8" name="Picture 21" descr="08"/>
          <p:cNvPicPr/>
          <p:nvPr/>
        </p:nvPicPr>
        <p:blipFill>
          <a:blip r:embed="rId1"/>
          <a:srcRect l="50001" t="0" r="26704" b="32995"/>
          <a:stretch/>
        </p:blipFill>
        <p:spPr>
          <a:xfrm>
            <a:off x="4554360" y="984240"/>
            <a:ext cx="1476720" cy="2089080"/>
          </a:xfrm>
          <a:prstGeom prst="rect">
            <a:avLst/>
          </a:prstGeom>
          <a:ln w="0">
            <a:noFill/>
          </a:ln>
        </p:spPr>
      </p:pic>
      <p:sp>
        <p:nvSpPr>
          <p:cNvPr id="999" name="Rectangle 3"/>
          <p:cNvSpPr/>
          <p:nvPr/>
        </p:nvSpPr>
        <p:spPr>
          <a:xfrm>
            <a:off x="674640" y="4859640"/>
            <a:ext cx="65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问题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你认识这些物品或图形吗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Rectangle 3"/>
          <p:cNvSpPr/>
          <p:nvPr/>
        </p:nvSpPr>
        <p:spPr>
          <a:xfrm>
            <a:off x="1467000" y="5318640"/>
            <a:ext cx="65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你了解周长是什么意思吗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Picture 17" descr="08"/>
          <p:cNvPicPr/>
          <p:nvPr/>
        </p:nvPicPr>
        <p:blipFill>
          <a:blip r:embed="rId2"/>
          <a:srcRect l="0" t="0" r="82943" b="39972"/>
          <a:stretch/>
        </p:blipFill>
        <p:spPr>
          <a:xfrm>
            <a:off x="1349280" y="922320"/>
            <a:ext cx="1081080" cy="1871640"/>
          </a:xfrm>
          <a:prstGeom prst="rect">
            <a:avLst/>
          </a:prstGeom>
          <a:ln w="0">
            <a:noFill/>
          </a:ln>
        </p:spPr>
      </p:pic>
      <p:sp>
        <p:nvSpPr>
          <p:cNvPr id="1002" name="Text Box 18"/>
          <p:cNvSpPr/>
          <p:nvPr/>
        </p:nvSpPr>
        <p:spPr>
          <a:xfrm>
            <a:off x="1452600" y="4140360"/>
            <a:ext cx="54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封闭图形一周的长度，是它的周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3" name="Picture 19" descr="08"/>
          <p:cNvPicPr/>
          <p:nvPr/>
        </p:nvPicPr>
        <p:blipFill>
          <a:blip r:embed="rId3"/>
          <a:srcRect l="76129" t="9265" r="-1677" b="42265"/>
          <a:stretch/>
        </p:blipFill>
        <p:spPr>
          <a:xfrm>
            <a:off x="6318360" y="1273320"/>
            <a:ext cx="1619280" cy="1511280"/>
          </a:xfrm>
          <a:prstGeom prst="rect">
            <a:avLst/>
          </a:prstGeom>
          <a:ln w="0">
            <a:noFill/>
          </a:ln>
        </p:spPr>
      </p:pic>
      <p:pic>
        <p:nvPicPr>
          <p:cNvPr id="1004" name="Picture 20" descr="08"/>
          <p:cNvPicPr/>
          <p:nvPr/>
        </p:nvPicPr>
        <p:blipFill>
          <a:blip r:embed="rId4"/>
          <a:srcRect l="18188" t="16192" r="54560" b="49187"/>
          <a:stretch/>
        </p:blipFill>
        <p:spPr>
          <a:xfrm>
            <a:off x="2575080" y="1488960"/>
            <a:ext cx="1726920" cy="1079640"/>
          </a:xfrm>
          <a:prstGeom prst="rect">
            <a:avLst/>
          </a:prstGeom>
          <a:ln w="0">
            <a:noFill/>
          </a:ln>
        </p:spPr>
      </p:pic>
      <p:pic>
        <p:nvPicPr>
          <p:cNvPr id="1005" name="Picture 22" descr="08"/>
          <p:cNvPicPr/>
          <p:nvPr/>
        </p:nvPicPr>
        <p:blipFill>
          <a:blip r:embed="rId5"/>
          <a:srcRect l="0" t="67011" r="85224" b="0"/>
          <a:stretch/>
        </p:blipFill>
        <p:spPr>
          <a:xfrm>
            <a:off x="1422360" y="3108240"/>
            <a:ext cx="936720" cy="1028880"/>
          </a:xfrm>
          <a:prstGeom prst="rect">
            <a:avLst/>
          </a:prstGeom>
          <a:ln w="0">
            <a:noFill/>
          </a:ln>
        </p:spPr>
      </p:pic>
      <p:pic>
        <p:nvPicPr>
          <p:cNvPr id="1006" name="Picture 23" descr="08"/>
          <p:cNvPicPr/>
          <p:nvPr/>
        </p:nvPicPr>
        <p:blipFill>
          <a:blip r:embed="rId6"/>
          <a:srcRect l="19313" t="64668" r="55688" b="0"/>
          <a:stretch/>
        </p:blipFill>
        <p:spPr>
          <a:xfrm>
            <a:off x="2646360" y="3071880"/>
            <a:ext cx="1584360" cy="110160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24" descr="08"/>
          <p:cNvPicPr/>
          <p:nvPr/>
        </p:nvPicPr>
        <p:blipFill>
          <a:blip r:embed="rId7"/>
          <a:srcRect l="47745" t="71590" r="28408" b="0"/>
          <a:stretch/>
        </p:blipFill>
        <p:spPr>
          <a:xfrm>
            <a:off x="4514760" y="3214800"/>
            <a:ext cx="1511280" cy="88560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25" descr="08"/>
          <p:cNvPicPr/>
          <p:nvPr/>
        </p:nvPicPr>
        <p:blipFill>
          <a:blip r:embed="rId8"/>
          <a:srcRect l="81818" t="69303" r="3982" b="0"/>
          <a:stretch/>
        </p:blipFill>
        <p:spPr>
          <a:xfrm>
            <a:off x="6678720" y="3144960"/>
            <a:ext cx="900000" cy="955440"/>
          </a:xfrm>
          <a:prstGeom prst="rect">
            <a:avLst/>
          </a:prstGeom>
          <a:ln w="0">
            <a:noFill/>
          </a:ln>
        </p:spPr>
      </p:pic>
      <p:grpSp>
        <p:nvGrpSpPr>
          <p:cNvPr id="1009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10" name="圆角矩形 6" descr=""/>
            <p:cNvPicPr/>
            <p:nvPr/>
          </p:nvPicPr>
          <p:blipFill>
            <a:blip r:embed="rId9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11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012" name="椭圆 8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13" name="椭圆 9" descr=""/>
              <p:cNvPicPr/>
              <p:nvPr/>
            </p:nvPicPr>
            <p:blipFill>
              <a:blip r:embed="rId10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4" name="椭圆 10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15" name="椭圆 11" descr=""/>
              <p:cNvPicPr/>
              <p:nvPr/>
            </p:nvPicPr>
            <p:blipFill>
              <a:blip r:embed="rId11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6" name="圆角矩形 1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7" name="圆角矩形 13" descr=""/>
              <p:cNvPicPr/>
              <p:nvPr/>
            </p:nvPicPr>
            <p:blipFill>
              <a:blip r:embed="rId13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8" name="圆角矩形 14" descr=""/>
              <p:cNvPicPr/>
              <p:nvPr/>
            </p:nvPicPr>
            <p:blipFill>
              <a:blip r:embed="rId14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9" name="圆角矩形 15" descr=""/>
              <p:cNvPicPr/>
              <p:nvPr/>
            </p:nvPicPr>
            <p:blipFill>
              <a:blip r:embed="rId15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"/>
                            </p:stCondLst>
                            <p:childTnLst>
                              <p:par>
                                <p:cTn id="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"/>
                            </p:stCondLst>
                            <p:childTnLst>
                              <p:par>
                                <p:cTn id="1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"/>
                            </p:stCondLst>
                            <p:childTnLst>
                              <p:par>
                                <p:cTn id="1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"/>
                            </p:stCondLst>
                            <p:childTnLst>
                              <p:par>
                                <p:cTn id="1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"/>
                            </p:stCondLst>
                            <p:childTnLst>
                              <p:par>
                                <p:cTn id="2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"/>
                            </p:stCondLst>
                            <p:childTnLst>
                              <p:par>
                                <p:cTn id="2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7"/>
                            </p:stCondLst>
                            <p:childTnLst>
                              <p:par>
                                <p:cTn id="2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8"/>
                            </p:stCondLst>
                            <p:childTnLst>
                              <p:par>
                                <p:cTn id="2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组合 10"/>
          <p:cNvGrpSpPr/>
          <p:nvPr/>
        </p:nvGrpSpPr>
        <p:grpSpPr>
          <a:xfrm>
            <a:off x="714240" y="3000240"/>
            <a:ext cx="7429680" cy="1130400"/>
            <a:chOff x="714240" y="3000240"/>
            <a:chExt cx="7429680" cy="1130400"/>
          </a:xfrm>
        </p:grpSpPr>
        <p:sp>
          <p:nvSpPr>
            <p:cNvPr id="1021" name="五角星 5"/>
            <p:cNvSpPr/>
            <p:nvPr/>
          </p:nvSpPr>
          <p:spPr>
            <a:xfrm>
              <a:off x="714240" y="3000240"/>
              <a:ext cx="1071360" cy="1130400"/>
            </a:xfrm>
            <a:custGeom>
              <a:avLst/>
              <a:gdLst/>
              <a:ahLst/>
              <a:rect l="l" t="t" r="r" b="b"/>
              <a:pathLst>
                <a:path w="1071562" h="1130300">
                  <a:moveTo>
                    <a:pt x="1" y="431735"/>
                  </a:moveTo>
                  <a:lnTo>
                    <a:pt x="409302" y="431738"/>
                  </a:lnTo>
                  <a:lnTo>
                    <a:pt x="535781" y="0"/>
                  </a:lnTo>
                  <a:lnTo>
                    <a:pt x="662259" y="431738"/>
                  </a:lnTo>
                  <a:lnTo>
                    <a:pt x="1071560" y="431735"/>
                  </a:lnTo>
                  <a:lnTo>
                    <a:pt x="740427" y="698560"/>
                  </a:lnTo>
                  <a:lnTo>
                    <a:pt x="866911" y="1130297"/>
                  </a:lnTo>
                  <a:lnTo>
                    <a:pt x="535781" y="863466"/>
                  </a:lnTo>
                  <a:lnTo>
                    <a:pt x="204650" y="1130297"/>
                  </a:lnTo>
                  <a:lnTo>
                    <a:pt x="331134" y="698560"/>
                  </a:lnTo>
                  <a:close/>
                </a:path>
              </a:pathLst>
            </a:custGeom>
            <a:solidFill>
              <a:srgbClr val="ccccff"/>
            </a:solidFill>
            <a:ln w="12600">
              <a:solidFill>
                <a:srgbClr val="9595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直角三角形 6"/>
            <p:cNvSpPr/>
            <p:nvPr/>
          </p:nvSpPr>
          <p:spPr>
            <a:xfrm>
              <a:off x="2857320" y="3011040"/>
              <a:ext cx="1214280" cy="1047960"/>
            </a:xfrm>
            <a:prstGeom prst="rtTriangle">
              <a:avLst/>
            </a:prstGeom>
            <a:solidFill>
              <a:srgbClr val="ccccff"/>
            </a:solidFill>
            <a:ln w="12600">
              <a:solidFill>
                <a:srgbClr val="9595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矩形 7"/>
            <p:cNvSpPr/>
            <p:nvPr/>
          </p:nvSpPr>
          <p:spPr>
            <a:xfrm>
              <a:off x="5072040" y="3144600"/>
              <a:ext cx="1428840" cy="91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9595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矩形 8"/>
            <p:cNvSpPr/>
            <p:nvPr/>
          </p:nvSpPr>
          <p:spPr>
            <a:xfrm>
              <a:off x="7143840" y="3130200"/>
              <a:ext cx="1000080" cy="100044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9595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25" name="Picture 2" descr="D:\我的文档-桌面-收藏夹\桌面\叶子.jpg"/>
          <p:cNvPicPr/>
          <p:nvPr/>
        </p:nvPicPr>
        <p:blipFill>
          <a:blip r:embed="rId1"/>
          <a:srcRect l="0" t="0" r="7436" b="10909"/>
          <a:stretch/>
        </p:blipFill>
        <p:spPr>
          <a:xfrm>
            <a:off x="857160" y="1143000"/>
            <a:ext cx="1285920" cy="88092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5" descr="D:\我的文档-桌面-收藏夹\桌面\钟.gif"/>
          <p:cNvPicPr/>
          <p:nvPr/>
        </p:nvPicPr>
        <p:blipFill>
          <a:blip r:embed="rId2"/>
          <a:stretch/>
        </p:blipFill>
        <p:spPr>
          <a:xfrm>
            <a:off x="7000920" y="83340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3" descr="D:\我的文档-桌面-收藏夹\桌面\三角尺.jpg"/>
          <p:cNvPicPr/>
          <p:nvPr/>
        </p:nvPicPr>
        <p:blipFill>
          <a:blip r:embed="rId3"/>
          <a:stretch/>
        </p:blipFill>
        <p:spPr>
          <a:xfrm>
            <a:off x="2722680" y="1071720"/>
            <a:ext cx="1563480" cy="1118880"/>
          </a:xfrm>
          <a:prstGeom prst="rect">
            <a:avLst/>
          </a:prstGeom>
          <a:ln w="0">
            <a:noFill/>
          </a:ln>
        </p:spPr>
      </p:pic>
      <p:sp>
        <p:nvSpPr>
          <p:cNvPr id="1028" name="TextBox 9"/>
          <p:cNvSpPr/>
          <p:nvPr/>
        </p:nvSpPr>
        <p:spPr>
          <a:xfrm>
            <a:off x="1009800" y="4421160"/>
            <a:ext cx="5572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封闭图形一周的长度，是它的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周长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9" name="组合 7"/>
          <p:cNvGrpSpPr/>
          <p:nvPr/>
        </p:nvGrpSpPr>
        <p:grpSpPr>
          <a:xfrm>
            <a:off x="1574640" y="5278320"/>
            <a:ext cx="3857760" cy="857520"/>
            <a:chOff x="1574640" y="5278320"/>
            <a:chExt cx="3857760" cy="857520"/>
          </a:xfrm>
        </p:grpSpPr>
        <p:sp>
          <p:nvSpPr>
            <p:cNvPr id="1030" name="AutoShape 27"/>
            <p:cNvSpPr/>
            <p:nvPr/>
          </p:nvSpPr>
          <p:spPr>
            <a:xfrm>
              <a:off x="2574720" y="5278320"/>
              <a:ext cx="2857680" cy="857520"/>
            </a:xfrm>
            <a:prstGeom prst="wedgeRoundRectCallout">
              <a:avLst>
                <a:gd name="adj1" fmla="val -56972"/>
                <a:gd name="adj2" fmla="val 3215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1c1c1c"/>
                  </a:solidFill>
                  <a:latin typeface="宋体"/>
                  <a:ea typeface="宋体"/>
                </a:rPr>
                <a:t>有办法知道上面这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1c1c1c"/>
                  </a:solidFill>
                  <a:latin typeface="宋体"/>
                  <a:ea typeface="宋体"/>
                </a:rPr>
                <a:t>些图形的周长吗？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31" name="Picture 2" descr="C:\Documents and Settings\Administrator\桌面\人\8.gif8"/>
            <p:cNvPicPr/>
            <p:nvPr/>
          </p:nvPicPr>
          <p:blipFill>
            <a:blip r:embed="rId4"/>
            <a:stretch/>
          </p:blipFill>
          <p:spPr>
            <a:xfrm flipH="1">
              <a:off x="1574640" y="5356080"/>
              <a:ext cx="714240" cy="749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32" name="Picture 2" descr=""/>
          <p:cNvPicPr/>
          <p:nvPr/>
        </p:nvPicPr>
        <p:blipFill>
          <a:blip r:embed="rId5"/>
          <a:stretch/>
        </p:blipFill>
        <p:spPr>
          <a:xfrm>
            <a:off x="4500720" y="35712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1033" name="八边形 11"/>
          <p:cNvSpPr/>
          <p:nvPr/>
        </p:nvSpPr>
        <p:spPr>
          <a:xfrm>
            <a:off x="179280" y="968400"/>
            <a:ext cx="514440" cy="517680"/>
          </a:xfrm>
          <a:prstGeom prst="octagon">
            <a:avLst>
              <a:gd name="adj" fmla="val 29287"/>
            </a:avLst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4" name="组合 1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35" name="圆角矩形 13" descr=""/>
            <p:cNvPicPr/>
            <p:nvPr/>
          </p:nvPicPr>
          <p:blipFill>
            <a:blip r:embed="rId6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36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037" name="椭圆 15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38" name="椭圆 16" descr=""/>
              <p:cNvPicPr/>
              <p:nvPr/>
            </p:nvPicPr>
            <p:blipFill>
              <a:blip r:embed="rId7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椭圆 17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40" name="椭圆 18" descr=""/>
              <p:cNvPicPr/>
              <p:nvPr/>
            </p:nvPicPr>
            <p:blipFill>
              <a:blip r:embed="rId8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1" name="圆角矩形 19" descr=""/>
              <p:cNvPicPr/>
              <p:nvPr/>
            </p:nvPicPr>
            <p:blipFill>
              <a:blip r:embed="rId9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2" name="圆角矩形 20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3" name="圆角矩形 21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4" name="圆角矩形 2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48" dur="2000" fill="hold"/>
                                        <p:tgtEl>
                                          <p:spTgt spid="10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5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46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47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048" name="椭圆 1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49" name="椭圆 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0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1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2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3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4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5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56" name="Rectangle 3"/>
          <p:cNvSpPr/>
          <p:nvPr/>
        </p:nvSpPr>
        <p:spPr>
          <a:xfrm>
            <a:off x="888840" y="3793680"/>
            <a:ext cx="764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问题：在活动中我们用到了哪些工具可以得到周长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Rectangle 3"/>
          <p:cNvSpPr/>
          <p:nvPr/>
        </p:nvSpPr>
        <p:spPr>
          <a:xfrm>
            <a:off x="2166840" y="4225320"/>
            <a:ext cx="15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软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Rectangle 3"/>
          <p:cNvSpPr/>
          <p:nvPr/>
        </p:nvSpPr>
        <p:spPr>
          <a:xfrm>
            <a:off x="2166840" y="4636440"/>
            <a:ext cx="17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绳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Rectangle 3"/>
          <p:cNvSpPr/>
          <p:nvPr/>
        </p:nvSpPr>
        <p:spPr>
          <a:xfrm>
            <a:off x="2166840" y="504792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直尺、三角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TextBox 26"/>
          <p:cNvSpPr/>
          <p:nvPr/>
        </p:nvSpPr>
        <p:spPr>
          <a:xfrm>
            <a:off x="2935440" y="4632480"/>
            <a:ext cx="1428480" cy="441360"/>
          </a:xfrm>
          <a:prstGeom prst="roundRect">
            <a:avLst>
              <a:gd name="adj" fmla="val 16667"/>
            </a:avLst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化曲为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1" name="图片 8202" descr="未标题-4"/>
          <p:cNvPicPr/>
          <p:nvPr/>
        </p:nvPicPr>
        <p:blipFill>
          <a:blip r:embed="rId8"/>
          <a:stretch/>
        </p:blipFill>
        <p:spPr>
          <a:xfrm>
            <a:off x="1835280" y="1415880"/>
            <a:ext cx="5106960" cy="2159280"/>
          </a:xfrm>
          <a:prstGeom prst="rect">
            <a:avLst/>
          </a:prstGeom>
          <a:ln w="0">
            <a:noFill/>
          </a:ln>
        </p:spPr>
      </p:pic>
      <p:sp>
        <p:nvSpPr>
          <p:cNvPr id="1062" name="八边形 11"/>
          <p:cNvSpPr/>
          <p:nvPr/>
        </p:nvSpPr>
        <p:spPr>
          <a:xfrm>
            <a:off x="179280" y="968400"/>
            <a:ext cx="514440" cy="517680"/>
          </a:xfrm>
          <a:prstGeom prst="octagon">
            <a:avLst>
              <a:gd name="adj" fmla="val 29287"/>
            </a:avLst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"/>
                            </p:stCondLst>
                            <p:childTnLst>
                              <p:par>
                                <p:cTn id="7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"/>
                            </p:stCondLst>
                            <p:childTnLst>
                              <p:par>
                                <p:cTn id="7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"/>
                            </p:stCondLst>
                            <p:childTnLst>
                              <p:par>
                                <p:cTn id="8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文本框 2"/>
          <p:cNvSpPr/>
          <p:nvPr/>
        </p:nvSpPr>
        <p:spPr>
          <a:xfrm>
            <a:off x="2571840" y="1278000"/>
            <a:ext cx="21747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认识周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文本框 4"/>
          <p:cNvSpPr/>
          <p:nvPr/>
        </p:nvSpPr>
        <p:spPr>
          <a:xfrm>
            <a:off x="625320" y="2131920"/>
            <a:ext cx="7967880" cy="9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封闭图形一周的长度，就是它的周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TextBox 3"/>
          <p:cNvSpPr/>
          <p:nvPr/>
        </p:nvSpPr>
        <p:spPr>
          <a:xfrm>
            <a:off x="857160" y="1138320"/>
            <a:ext cx="65008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先量一量，再算出下面图形的周长各是多少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6" name="Picture 3" descr="D:\我的文档-桌面-收藏夹\桌面\1.png"/>
          <p:cNvPicPr/>
          <p:nvPr/>
        </p:nvPicPr>
        <p:blipFill>
          <a:blip r:embed="rId1"/>
          <a:stretch/>
        </p:blipFill>
        <p:spPr>
          <a:xfrm>
            <a:off x="1928880" y="1995480"/>
            <a:ext cx="5322960" cy="630360"/>
          </a:xfrm>
          <a:prstGeom prst="rect">
            <a:avLst/>
          </a:prstGeom>
          <a:ln w="0">
            <a:noFill/>
          </a:ln>
        </p:spPr>
      </p:pic>
      <p:sp>
        <p:nvSpPr>
          <p:cNvPr id="1067" name="TextBox 6"/>
          <p:cNvSpPr/>
          <p:nvPr/>
        </p:nvSpPr>
        <p:spPr>
          <a:xfrm>
            <a:off x="1749600" y="2781360"/>
            <a:ext cx="100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6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厘米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Box 7"/>
          <p:cNvSpPr/>
          <p:nvPr/>
        </p:nvSpPr>
        <p:spPr>
          <a:xfrm>
            <a:off x="3535200" y="2781360"/>
            <a:ext cx="10004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7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厘米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TextBox 8"/>
          <p:cNvSpPr/>
          <p:nvPr/>
        </p:nvSpPr>
        <p:spPr>
          <a:xfrm>
            <a:off x="5607000" y="2852640"/>
            <a:ext cx="13572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0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厘米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0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71" name="圆角矩形 5" descr=""/>
            <p:cNvPicPr/>
            <p:nvPr/>
          </p:nvPicPr>
          <p:blipFill>
            <a:blip r:embed="rId2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72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073" name="椭圆 1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4" name="椭圆 3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5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6" name="椭圆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7" name="圆角矩形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8" name="圆角矩形 32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9" name="圆角矩形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0" name="圆角矩形 34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1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82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83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084" name="椭圆 1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5" name="椭圆 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6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7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8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9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0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1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92" name="文本框 103"/>
          <p:cNvSpPr/>
          <p:nvPr/>
        </p:nvSpPr>
        <p:spPr>
          <a:xfrm>
            <a:off x="279360" y="627120"/>
            <a:ext cx="8413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　　　　　　）图形一周的长度，就是它的周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一根铁丝围成一个长方形，所用铁丝的长度就是这个长方形的（　　　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角形的周长是（　　）条边的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方形的周长是（　　　）条边的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四边形的周长是（　　　）条边的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长方形的周长是（　　　）条边的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文本框 2"/>
          <p:cNvSpPr/>
          <p:nvPr/>
        </p:nvSpPr>
        <p:spPr>
          <a:xfrm>
            <a:off x="1352520" y="1359000"/>
            <a:ext cx="16336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封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文本框 4"/>
          <p:cNvSpPr/>
          <p:nvPr/>
        </p:nvSpPr>
        <p:spPr>
          <a:xfrm>
            <a:off x="2790720" y="2698920"/>
            <a:ext cx="16336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周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文本框 6"/>
          <p:cNvSpPr/>
          <p:nvPr/>
        </p:nvSpPr>
        <p:spPr>
          <a:xfrm>
            <a:off x="3686040" y="3222720"/>
            <a:ext cx="61776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文本框 7"/>
          <p:cNvSpPr/>
          <p:nvPr/>
        </p:nvSpPr>
        <p:spPr>
          <a:xfrm>
            <a:off x="3686040" y="3855960"/>
            <a:ext cx="61776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文本框 8"/>
          <p:cNvSpPr/>
          <p:nvPr/>
        </p:nvSpPr>
        <p:spPr>
          <a:xfrm>
            <a:off x="3686040" y="4489560"/>
            <a:ext cx="61776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文本框 9"/>
          <p:cNvSpPr/>
          <p:nvPr/>
        </p:nvSpPr>
        <p:spPr>
          <a:xfrm>
            <a:off x="3686040" y="5205240"/>
            <a:ext cx="61776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9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00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01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102" name="椭圆 1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3" name="椭圆 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4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5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6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7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8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9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10" name="文本框 103"/>
          <p:cNvSpPr/>
          <p:nvPr/>
        </p:nvSpPr>
        <p:spPr>
          <a:xfrm>
            <a:off x="279360" y="1028880"/>
            <a:ext cx="490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算出下面各图形的周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1" name="图片 -2147482620" descr=""/>
          <p:cNvPicPr/>
          <p:nvPr/>
        </p:nvPicPr>
        <p:blipFill>
          <a:blip r:embed="rId8"/>
          <a:stretch/>
        </p:blipFill>
        <p:spPr>
          <a:xfrm>
            <a:off x="958680" y="1951200"/>
            <a:ext cx="2359080" cy="1029960"/>
          </a:xfrm>
          <a:prstGeom prst="rect">
            <a:avLst/>
          </a:prstGeom>
          <a:ln w="0">
            <a:noFill/>
          </a:ln>
        </p:spPr>
      </p:pic>
      <p:pic>
        <p:nvPicPr>
          <p:cNvPr id="1112" name="图片 -2147482622" descr=""/>
          <p:cNvPicPr/>
          <p:nvPr/>
        </p:nvPicPr>
        <p:blipFill>
          <a:blip r:embed="rId9"/>
          <a:stretch/>
        </p:blipFill>
        <p:spPr>
          <a:xfrm>
            <a:off x="4811760" y="2075040"/>
            <a:ext cx="1990800" cy="780840"/>
          </a:xfrm>
          <a:prstGeom prst="rect">
            <a:avLst/>
          </a:prstGeom>
          <a:ln w="0">
            <a:noFill/>
          </a:ln>
        </p:spPr>
      </p:pic>
      <p:sp>
        <p:nvSpPr>
          <p:cNvPr id="1113" name="文本框 2"/>
          <p:cNvSpPr/>
          <p:nvPr/>
        </p:nvSpPr>
        <p:spPr>
          <a:xfrm>
            <a:off x="654120" y="3624120"/>
            <a:ext cx="34336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12+12+10+10=44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厘米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文本框 4"/>
          <p:cNvSpPr/>
          <p:nvPr/>
        </p:nvSpPr>
        <p:spPr>
          <a:xfrm>
            <a:off x="4811760" y="3552840"/>
            <a:ext cx="309384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25+20+18=63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分米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5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16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17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118" name="椭圆 1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19" name="椭圆 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0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21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2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3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4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5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26" name="文本框 103"/>
          <p:cNvSpPr/>
          <p:nvPr/>
        </p:nvSpPr>
        <p:spPr>
          <a:xfrm>
            <a:off x="279360" y="987480"/>
            <a:ext cx="866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、先用彩笔描出下面图形的边线，再估一估它们的周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7" name="Group 2"/>
          <p:cNvGrpSpPr/>
          <p:nvPr/>
        </p:nvGrpSpPr>
        <p:grpSpPr>
          <a:xfrm>
            <a:off x="795240" y="2095560"/>
            <a:ext cx="7585200" cy="1251000"/>
            <a:chOff x="795240" y="2095560"/>
            <a:chExt cx="7585200" cy="1251000"/>
          </a:xfrm>
        </p:grpSpPr>
        <p:sp>
          <p:nvSpPr>
            <p:cNvPr id="1128" name="Picture 3"/>
            <p:cNvSpPr/>
            <p:nvPr/>
          </p:nvSpPr>
          <p:spPr>
            <a:xfrm>
              <a:off x="795240" y="2095560"/>
              <a:ext cx="7585200" cy="12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AutoShape 4"/>
            <p:cNvSpPr/>
            <p:nvPr/>
          </p:nvSpPr>
          <p:spPr>
            <a:xfrm>
              <a:off x="2781000" y="2208960"/>
              <a:ext cx="1315800" cy="795960"/>
            </a:xfrm>
            <a:prstGeom prst="hexagon">
              <a:avLst>
                <a:gd name="adj" fmla="val 41327"/>
                <a:gd name="vf" fmla="val 11547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AutoShape 5"/>
            <p:cNvSpPr/>
            <p:nvPr/>
          </p:nvSpPr>
          <p:spPr>
            <a:xfrm>
              <a:off x="4699440" y="2322360"/>
              <a:ext cx="1054440" cy="682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AutoShape 6"/>
            <p:cNvSpPr/>
            <p:nvPr/>
          </p:nvSpPr>
          <p:spPr>
            <a:xfrm>
              <a:off x="6726600" y="2095560"/>
              <a:ext cx="1492560" cy="1251000"/>
            </a:xfrm>
            <a:custGeom>
              <a:avLst/>
              <a:gdLst>
                <a:gd name="textAreaLeft" fmla="*/ 614880 w 1492560"/>
                <a:gd name="textAreaRight" fmla="*/ 877680 w 1492560"/>
                <a:gd name="textAreaTop" fmla="*/ 515520 h 1251000"/>
                <a:gd name="textAreaBottom" fmla="*/ 735480 h 125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AutoShape 7"/>
            <p:cNvSpPr/>
            <p:nvPr/>
          </p:nvSpPr>
          <p:spPr>
            <a:xfrm>
              <a:off x="795240" y="2095560"/>
              <a:ext cx="1478880" cy="1024560"/>
            </a:xfrm>
            <a:custGeom>
              <a:avLst/>
              <a:gdLst/>
              <a:ahLst/>
              <a:rect l="l" t="t" r="r" b="b"/>
              <a:pathLst>
                <a:path w="1404" h="1219">
                  <a:moveTo>
                    <a:pt x="0" y="465"/>
                  </a:moveTo>
                  <a:lnTo>
                    <a:pt x="536" y="465"/>
                  </a:lnTo>
                  <a:lnTo>
                    <a:pt x="702" y="0"/>
                  </a:lnTo>
                  <a:lnTo>
                    <a:pt x="867" y="465"/>
                  </a:lnTo>
                  <a:lnTo>
                    <a:pt x="1403" y="465"/>
                  </a:lnTo>
                  <a:lnTo>
                    <a:pt x="970" y="753"/>
                  </a:lnTo>
                  <a:lnTo>
                    <a:pt x="1135" y="1218"/>
                  </a:lnTo>
                  <a:lnTo>
                    <a:pt x="702" y="931"/>
                  </a:lnTo>
                  <a:lnTo>
                    <a:pt x="268" y="1218"/>
                  </a:lnTo>
                  <a:lnTo>
                    <a:pt x="433" y="75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文本框 2"/>
          <p:cNvSpPr/>
          <p:nvPr/>
        </p:nvSpPr>
        <p:spPr>
          <a:xfrm>
            <a:off x="0" y="3346560"/>
            <a:ext cx="901692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估计周长是　　估计周长是　估计周长是　估计周长是（　　）厘米（　　）厘米 （　　）厘米（　　）厘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文本框 6"/>
          <p:cNvSpPr/>
          <p:nvPr/>
        </p:nvSpPr>
        <p:spPr>
          <a:xfrm>
            <a:off x="514440" y="4127400"/>
            <a:ext cx="6174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文本框 2"/>
          <p:cNvSpPr/>
          <p:nvPr/>
        </p:nvSpPr>
        <p:spPr>
          <a:xfrm>
            <a:off x="2627280" y="4127400"/>
            <a:ext cx="6174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文本框 4"/>
          <p:cNvSpPr/>
          <p:nvPr/>
        </p:nvSpPr>
        <p:spPr>
          <a:xfrm>
            <a:off x="4917960" y="4127400"/>
            <a:ext cx="61776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文本框 7"/>
          <p:cNvSpPr/>
          <p:nvPr/>
        </p:nvSpPr>
        <p:spPr>
          <a:xfrm>
            <a:off x="7070760" y="4127400"/>
            <a:ext cx="6174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7:11:36Z</dcterms:created>
  <dc:creator/>
  <dc:description/>
  <dc:language>en-US</dc:language>
  <cp:lastModifiedBy>万润仪器贸易公司</cp:lastModifiedBy>
  <dcterms:modified xsi:type="dcterms:W3CDTF">2020-08-21T01:30:32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